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camera.wav" ContentType="audio/x-wav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5FC-D0E0-4A94-A9A8-A7EF3DB8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E69-EF02-487B-905E-59BF5FDC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C41-2D9E-408F-86F8-3B2CCCCF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105-0E6B-4CFE-BADF-290C53BA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BB3-D0E9-459A-866E-03AA34F8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D24-FE71-4717-A5FA-A25612A3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301-2B25-43B0-8D70-D7565D4D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4DA-F0AB-4444-9AFB-929A247D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824-3A8D-40BA-8288-32E0C8B5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08A-9592-4336-9A4E-DE432BC2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2BF-75E4-4024-9E76-87296050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8BD-CBA0-4B43-8337-3E66B61B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499B-4C5A-4CD5-91AF-468C2FFFF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rj-socrates.com/Cartoon%2520Pics/Hanna%2520Barbera/Scooby%2520Doo/Scooby_304.gif&amp;imgrefurl=http://www.jrj-socrates.com/Cartoon%2520Pages/scooby_doo.htm&amp;h=300&amp;w=231&amp;sz=20&amp;hl=en&amp;start=36&amp;tbnid=OO%20" TargetMode="External"/><Relationship Id="rId2" Type="http://schemas.openxmlformats.org/officeDocument/2006/relationships/hyperlink" Target="http://images.google.com/imgres?imgurl=http://www.jrj-socrates.com/Cartoon%2520Pics/Hanna%2520Barbera/Scooby%2520Doo/Scooby_304.gif&amp;imgrefurl=http://www.jrj-socrates.com/Cartoon%2520Pages/scooby_doo.htm&amp;h=300&amp;w=231&amp;sz=20&amp;hl=en&amp;start=36&amp;tbnid=OO%20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3852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ang001a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410440" cy="362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14400" y="44197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Snap ITC"/>
              </a:rPr>
              <a:t>Scooby Snack Atta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x 5 =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 x 7 =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5 / 5 = 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/ 35 =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-590760" y="272412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6708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362320" y="19051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 + 7 = 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+ 0 = 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- 0 = 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- 7 = 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 rot="5400000">
            <a:off x="-1162080" y="329544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Y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26708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362320" y="19051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 x 7 = 6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x 9 = 6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3 / 9 = 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/ 63 = 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 rot="5400000">
            <a:off x="-590760" y="272412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6708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62320" y="19051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4146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Scooby-Doo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14800" cy="2457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971800" y="44197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343400" y="449568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609480" cy="549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09480" y="1143000"/>
            <a:ext cx="7925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lp Scooby make fact famil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th the snacks on his plat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6019920" y="38862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4495680" y="380988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5867280" y="525780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7620120" y="41148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7467480" y="53341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7543800" y="4724280"/>
            <a:ext cx="6094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146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cooby-Doo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14800" cy="2457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971800" y="44197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4343400" y="449568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609480" cy="549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09480" y="304920"/>
            <a:ext cx="79250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 groups of 3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 x 3 = 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... our numbers are 3,4,and 12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6019920" y="38862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4495680" y="380988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5867280" y="525780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7620120" y="41148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7467480" y="53341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7543800" y="4724280"/>
            <a:ext cx="6094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 x 3 = 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 x 4 = 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 / 4 =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 / 3 = 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267080" y="609480"/>
            <a:ext cx="533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438280" y="1752480"/>
            <a:ext cx="68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1" name="Scooby-Doo" descr=""/>
          <p:cNvPicPr/>
          <p:nvPr/>
        </p:nvPicPr>
        <p:blipFill>
          <a:blip r:embed="rId1"/>
          <a:stretch/>
        </p:blipFill>
        <p:spPr>
          <a:xfrm>
            <a:off x="0" y="4876920"/>
            <a:ext cx="1596960" cy="1695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809880" y="1295280"/>
            <a:ext cx="16002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5400000">
            <a:off x="1184760" y="2853360"/>
            <a:ext cx="30016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P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95480" y="2971800"/>
            <a:ext cx="2657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ductio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5" name="">
            <a:hlinkClick r:id="rId1"/>
          </p:cNvPr>
          <p:cNvSpPr/>
          <p:nvPr/>
        </p:nvSpPr>
        <p:spPr>
          <a:xfrm>
            <a:off x="416736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42670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2133720"/>
            <a:ext cx="8096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146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ooby-Doo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314800" cy="2457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35053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28195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400800" y="32767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562720" y="3200400"/>
            <a:ext cx="609480" cy="54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8120" y="2819520"/>
            <a:ext cx="2361960" cy="190476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495680" y="335268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114800" y="3962520"/>
            <a:ext cx="609480" cy="54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848720" y="30492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924680" y="175248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924680" y="350532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6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010280" y="2438280"/>
            <a:ext cx="657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+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1120" y="57150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19320" y="510552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3720" y="5638680"/>
            <a:ext cx="65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+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24080" y="510552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91520" y="3200400"/>
            <a:ext cx="17524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___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57800" y="518148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6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9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s can be addition and subtraction, or multiplication and division.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cooby-Doo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314800" cy="245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95480" y="586728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657600" y="55627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572000" y="59436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410080" y="55627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248520" y="6095880"/>
            <a:ext cx="609480" cy="549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8120" y="1905120"/>
            <a:ext cx="5410080" cy="350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95480" y="151200"/>
            <a:ext cx="5715000" cy="175284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562720" y="228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81280" y="1219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0120" y="1219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038480" y="21337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+ 3 =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038480" y="2895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 + 2 =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114800" y="37339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 - 2 =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38480" y="45720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 - 3 =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cooby-Doo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314800" cy="2457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048120" y="609588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048120" y="54864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886200" y="609588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038480" y="55627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4876920" y="6095880"/>
            <a:ext cx="609480" cy="54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8120" y="1905120"/>
            <a:ext cx="5410080" cy="350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895480" y="151200"/>
            <a:ext cx="5715000" cy="175284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562720" y="228600"/>
            <a:ext cx="53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81280" y="1219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0120" y="1219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038480" y="21337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+ 8 = 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38480" y="2895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 + 2 = 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14800" y="37339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 - 2 = 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038480" y="45720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 - 8 =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4876920" y="55627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5638680" y="55627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5638680" y="609588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6553080" y="55627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6477120" y="6095880"/>
            <a:ext cx="6094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1219320"/>
            <a:ext cx="815364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s it a fact family 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2120" y="533520"/>
            <a:ext cx="739116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fact family ha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ur equation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wo are multiplicatio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wo are divisio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2520" y="1143000"/>
            <a:ext cx="8238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nly three numbers can make u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ach equatio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ach equation must be tru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 x 6 = 4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 + 8 = 4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8 / 8 = 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8 / 6 = 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-1162080" y="329544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Y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708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362320" y="19051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 x 6 = 6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 x 10 = 6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0 / 5 = 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0 / 12 =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 rot="5400000">
            <a:off x="-667080" y="2800440"/>
            <a:ext cx="3048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67080" y="609480"/>
            <a:ext cx="533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62320" y="190512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3:07:59Z</dcterms:created>
  <dc:creator>Michelle Blanchard</dc:creator>
  <dc:description/>
  <dc:language>en-US</dc:language>
  <cp:lastModifiedBy> </cp:lastModifiedBy>
  <dcterms:modified xsi:type="dcterms:W3CDTF">2008-04-29T17:30:40Z</dcterms:modified>
  <cp:revision>9</cp:revision>
  <dc:subject/>
  <dc:title>PowerPoint Presentation</dc:title>
</cp:coreProperties>
</file>